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7EF-FF5B-4B44-8BD9-8F9582D7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044-E3C8-4F36-BD03-831D9976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F84-4E89-4A58-9BF5-3710F03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0AE-0A60-4840-A9C2-634DB49C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B0E9-8EED-4E7A-A4AE-C8FFA4FE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2360-7708-450F-9381-1EB36FC9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9926-816C-4E7B-87BA-3FBB64C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1DC-3A8E-4BDC-8FAD-11D5895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2FE-4F47-446F-B039-F1CB798D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BDF-70E1-4BED-B3A7-202FDB9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AB9C-46DE-42D8-94F5-937DEDE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B05-AA6C-445D-85CE-AD441F5F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E863-5303-4CA1-ADC6-3F696DB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17C-E83A-4246-87E0-C358833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8BB5-431E-479D-B103-C96A381F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84B-5E94-4D85-9369-CE7F61EB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0D5B-20DB-48C4-A5D4-3FA5855E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32CB2-8488-49D8-88B6-8CE5EF2B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F3FD5-7220-47F1-8A0B-DA52626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4AA5A-ADC8-40DA-A5C3-0C08F88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45090-3147-4009-8D32-AD6985E8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47664-43F0-4624-B7B7-146D2433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3B7-979B-4628-AB26-FECA55D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A4DF0-762F-4AC5-872E-7B30E4D5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435B3-DB40-427A-8FE3-ED336F6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378CC-5ACA-43D8-9281-E5D04A8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AEC94-D13E-474D-A59B-5B803A5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976A5-95FC-4ED9-9BC0-3B5699D8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C80AA-A8F4-47A5-8761-E6266BBF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6273A-62F0-4F7F-8A95-F02557C2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1C33-F71D-49FE-801B-8320C4FD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271A-9FBD-406E-A993-58A6EAC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77C5-803C-403D-8BB1-1DDD2D61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3DB-B068-46F7-9F4C-C89D04D1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3F4B-D665-4E0E-93F6-C29AC13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A9A2-835B-4017-BFE5-352F46F7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2711-596D-4CB1-A5E2-5E136DA2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EC181-2B85-4289-9D1A-5E8DA76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3E3D-1A70-442A-AFD4-F2E24FD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CF6A-3D50-4915-8CB9-E7302146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8431-203A-44D6-A775-251FA9B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18B7-2762-4079-8275-772970E9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C8FA-AA21-4594-A7A6-A0647B1F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8DA-CF5A-4149-A422-D24E731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D4E-D41B-40CB-A7B1-4EF3C41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0F5-25C5-46F2-9262-370FBEBD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4C6-8D86-4A08-809E-4142D96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674-1DFA-4E95-9BEE-8EBDC10E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4CF2-4E4F-4BF6-B778-D99617DA53B7}" type="slidenum">
              <a: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4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94c600"/>
                </a:solidFill>
                <a:latin typeface="Century Gothic"/>
                <a:ea typeface="DilleniaU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57A-0853-4A14-99BC-D77574CF8550}" type="slidenum">
              <a:rPr b="0" lang="th-TH" sz="1200" spc="-1" strike="noStrike">
                <a:solidFill>
                  <a:srgbClr val="94c600"/>
                </a:solidFill>
                <a:latin typeface="Century Gothic"/>
                <a:ea typeface="DilleniaU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636-2E77-43EE-94F6-77D222832033}" type="slidenum">
              <a: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F51-3DC4-4DB9-BF34-B2E55723CD34}" type="slidenum">
              <a:rPr b="0" lang="th-TH" sz="1200" spc="-1" strike="noStrike">
                <a:solidFill>
                  <a:srgbClr val="fefefe"/>
                </a:solidFill>
                <a:latin typeface="Century Gothic"/>
                <a:ea typeface="DilleniaU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3399"/>
                </a:solidFill>
                <a:latin typeface="4805_KwangMD_Melt"/>
              </a:rPr>
              <a:t>โครงการ</a:t>
            </a:r>
            <a:r>
              <a:rPr b="1" lang="th-TH" sz="4400" spc="-1" strike="noStrike">
                <a:solidFill>
                  <a:srgbClr val="003399"/>
                </a:solidFill>
                <a:latin typeface="4805_KwangMD_Melt"/>
              </a:rPr>
              <a:t>/</a:t>
            </a:r>
            <a:r>
              <a:rPr b="1" lang="th-TH" sz="4400" spc="-1" strike="noStrike">
                <a:solidFill>
                  <a:srgbClr val="003399"/>
                </a:solidFill>
                <a:latin typeface="4805_KwangMD_Melt"/>
              </a:rPr>
              <a:t>กิจกรรม</a:t>
            </a:r>
            <a:br>
              <a:rPr sz="4400"/>
            </a:br>
            <a:r>
              <a:rPr b="1" lang="th-TH" sz="4400" spc="-1" strike="noStrike">
                <a:solidFill>
                  <a:srgbClr val="003399"/>
                </a:solidFill>
                <a:latin typeface="4805_KwangMD_Melt"/>
              </a:rPr>
              <a:t>ปีงบประมาณ </a:t>
            </a:r>
            <a:r>
              <a:rPr b="1" lang="th-TH" sz="4400" spc="-1" strike="noStrike">
                <a:solidFill>
                  <a:srgbClr val="003399"/>
                </a:solidFill>
                <a:latin typeface="4805_KwangMD_Melt"/>
              </a:rPr>
              <a:t>2563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88000" y="4581360"/>
            <a:ext cx="330984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4d00"/>
                </a:solidFill>
                <a:latin typeface="4805_KwangMD_Melt"/>
              </a:rPr>
              <a:t>กลุ่มอารักขาพืช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4d00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4c600"/>
                </a:solidFill>
                <a:latin typeface="4805_KwangMD_Melt"/>
              </a:rPr>
              <a:t>การดำเนินงานแปลงติดตามสถานการณ์และการเตือนการระบาดศัตรูพืชของศูนย์จัดการศัตรูพืชชุมชนและพื้นที่เสี่ยง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1800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จัดหาวัสดุ ที่เกี่ยวข้องกับการเก็บข้อมูล การสำรวจแปลงติดตามสถานการณ์ศัตรูพืช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ข้าว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  จำนวน 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86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ทุกตำบล แปลงศจช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ละแปลงทั่วไป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)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มันสำปะหลัง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  จำนวน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16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โพธิ์ประทับช้าง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3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ทับคล้อ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3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โพทะเล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2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สามง่าม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2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บึงนาราง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2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วชิรบารมี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2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สากเหล็ก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1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ดงเจริญ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1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)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อ้อย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 จำนวน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6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เมืองพิจิตร โพธิ์ประทับช้าง โพทะเล บึงนาราง วชิรบารมี สามง่าม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ข้าวโพดเลี้ยงสัตว์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 จำนวน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16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อำเภอโพธิ์ประทับช้าง ทับคล้อ ดงเจริญ ตะพานหิน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โพทะเล สามง่าม บึงนาราง อำเภอละ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2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 เมืองพิจิตร บางมูลนาก อำเภอละ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1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รวม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124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แปลง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26080" indent="-18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งบประมาณ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24,500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บาท   </a:t>
            </a: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หน่วยเบิกจ่าย </a:t>
            </a:r>
            <a:r>
              <a:rPr b="1" lang="en-US" sz="2800" spc="-1" strike="noStrike">
                <a:solidFill>
                  <a:srgbClr val="000099"/>
                </a:solidFill>
                <a:latin typeface="4805_KwangMD_Melt"/>
              </a:rPr>
              <a:t>:</a:t>
            </a:r>
            <a:r>
              <a:rPr b="1" lang="th-TH" sz="2800" spc="-1" strike="noStrike">
                <a:solidFill>
                  <a:srgbClr val="000099"/>
                </a:solidFill>
                <a:latin typeface="4805_KwangMD_Melt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4805_KwangMD_Melt"/>
              </a:rPr>
              <a:t>สำนักงานเกษตรจังหวัดพิจิตร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94c600"/>
                </a:solidFill>
                <a:latin typeface="4805_KwangMD_Melt"/>
              </a:rPr>
              <a:t>สนับสนุนปัจจัยควบคุมศัตรูพืชแก่สมาชิกศูนย์จัดการศัตรูพืชชุมชนและพื้นที่เสี่ยงการระบาดของศัตรูพืช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0920" y="198900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21040">
              <a:lnSpc>
                <a:spcPct val="100000"/>
              </a:lnSpc>
              <a:spcBef>
                <a:spcPts val="901"/>
              </a:spcBef>
              <a:buClr>
                <a:srgbClr val="94c6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จังหวัดดำเนินการจัดซื้อ จัดหา วัสดุผลิตขยายศัตรูธรรมชาติ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277560" indent="-221040">
              <a:lnSpc>
                <a:spcPct val="100000"/>
              </a:lnSpc>
              <a:spcBef>
                <a:spcPts val="901"/>
              </a:spcBef>
              <a:buClr>
                <a:srgbClr val="94c6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อำเภอต้องติดตามผลการผลิตขยายเชื้อจุลินทรีย์และศัตรูธรรมชาติ </a:t>
            </a:r>
            <a:r>
              <a:rPr b="1" lang="th-TH" sz="3600" spc="-1" strike="noStrike" u="sng">
                <a:solidFill>
                  <a:srgbClr val="000099"/>
                </a:solidFill>
                <a:uFillTx/>
                <a:latin typeface="4805_KwangMD_Melt"/>
              </a:rPr>
              <a:t>และรายงานให้จังหวัดทราบทุกวันที่ </a:t>
            </a:r>
            <a:r>
              <a:rPr b="1" lang="th-TH" sz="3600" spc="-1" strike="noStrike" u="sng">
                <a:solidFill>
                  <a:srgbClr val="000099"/>
                </a:solidFill>
                <a:uFillTx/>
                <a:latin typeface="4805_KwangMD_Melt"/>
              </a:rPr>
              <a:t>20 </a:t>
            </a:r>
            <a:r>
              <a:rPr b="1" lang="th-TH" sz="3600" spc="-1" strike="noStrike" u="sng">
                <a:solidFill>
                  <a:srgbClr val="000099"/>
                </a:solidFill>
                <a:uFillTx/>
                <a:latin typeface="4805_KwangMD_Melt"/>
              </a:rPr>
              <a:t>ของเดือน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 ทั้งนี้ต้องระบุหน่วยปริมาณการผลิตให้ชัดเจน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277560" indent="-221040">
              <a:lnSpc>
                <a:spcPct val="100000"/>
              </a:lnSpc>
              <a:spcBef>
                <a:spcPts val="901"/>
              </a:spcBef>
              <a:buClr>
                <a:srgbClr val="94c6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งบประมาณ ศูนย์ละ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1,600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บาท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277560" indent="-221040">
              <a:lnSpc>
                <a:spcPct val="100000"/>
              </a:lnSpc>
              <a:spcBef>
                <a:spcPts val="901"/>
              </a:spcBef>
              <a:buClr>
                <a:srgbClr val="94c6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หน่วยงานเบิกจ่าย </a:t>
            </a:r>
            <a:r>
              <a:rPr b="1" lang="en-US" sz="3600" spc="-1" strike="noStrike">
                <a:solidFill>
                  <a:srgbClr val="000099"/>
                </a:solidFill>
                <a:latin typeface="4805_KwangMD_Melt"/>
              </a:rPr>
              <a:t>: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277560" indent="-221040">
              <a:lnSpc>
                <a:spcPct val="10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7030a0"/>
                </a:solidFill>
                <a:latin typeface="Century Gothic"/>
              </a:rPr>
              <a:t>1. </a:t>
            </a:r>
            <a:r>
              <a:rPr b="1" lang="th-TH" sz="4000" spc="-1" strike="noStrike">
                <a:solidFill>
                  <a:srgbClr val="7030a0"/>
                </a:solidFill>
                <a:latin typeface="Century Gothic"/>
              </a:rPr>
              <a:t>กิจกรรม พัฒนาศูนย์จัดการดินปุ๋ยชุมชน</a:t>
            </a:r>
            <a:br>
              <a:rPr sz="4000"/>
            </a:br>
            <a:r>
              <a:rPr b="1" lang="th-TH" sz="4000" spc="-1" strike="noStrike">
                <a:solidFill>
                  <a:srgbClr val="7030a0"/>
                </a:solidFill>
                <a:latin typeface="Century Gothic"/>
              </a:rPr>
              <a:t>2. </a:t>
            </a:r>
            <a:r>
              <a:rPr b="1" lang="th-TH" sz="4000" spc="-1" strike="noStrike">
                <a:solidFill>
                  <a:srgbClr val="7030a0"/>
                </a:solidFill>
                <a:latin typeface="Century Gothic"/>
              </a:rPr>
              <a:t>กิจกรรม ถ่ายทอดเทคโนโลยีด้านการจัดการดิน   </a:t>
            </a:r>
            <a:br>
              <a:rPr sz="4000"/>
            </a:br>
            <a:r>
              <a:rPr b="1" lang="th-TH" sz="4000" spc="-1" strike="noStrike">
                <a:solidFill>
                  <a:srgbClr val="7030a0"/>
                </a:solidFill>
                <a:latin typeface="Century Gothic"/>
              </a:rPr>
              <a:t>   และปุ๋ยอย่างมีประสิทธิภาพ</a:t>
            </a:r>
            <a:r>
              <a:rPr b="0" lang="th-TH" sz="4000" spc="-1" strike="noStrike">
                <a:solidFill>
                  <a:srgbClr val="7030a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920" y="2708280"/>
            <a:ext cx="7416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1882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7030a0"/>
                </a:solidFill>
                <a:latin typeface="Century Gothic"/>
              </a:rPr>
              <a:t>กิจกรรม พัฒนาศูนย์จัดการดินปุ๋ยชุมชน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1) 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สนับสนุนการดำเนินกิจกรรมของ ศดปช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2) 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จัดเวทีสร้างเครือข่ายด้านดินและปุ๋ย ระดับจังหวัด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3) 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เสริมสร้างศักยภาพ ศดปช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ดีเด่น 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ระดับเขต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7030a0"/>
                </a:solidFill>
                <a:latin typeface="Century Gothic"/>
              </a:rPr>
              <a:t>กิจกรรมถ่ายทอดเทคโนโลยีด้านการจัดการดินและปุ๋ยอย่างมีประสิทธิภาพ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7030a0"/>
                </a:solidFill>
                <a:latin typeface="Century Gothic"/>
              </a:rPr>
              <a:t>     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การ</a:t>
            </a:r>
            <a:r>
              <a:rPr b="1" lang="th-TH" sz="2400" spc="-1" strike="noStrike">
                <a:solidFill>
                  <a:srgbClr val="3e3d2d"/>
                </a:solidFill>
                <a:latin typeface="Century Gothic"/>
              </a:rPr>
              <a:t>จัดกระบวนการเรียนรู้ด้านการจัดการดินและปุ๋ย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030a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36520" indent="-188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024680" cy="6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1) 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สนับสนุนการดำเนินกิจกรรมของ ศดปช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71640" y="1557000"/>
            <a:ext cx="741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32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เป้าหมาย </a:t>
            </a:r>
            <a:r>
              <a:rPr b="1" lang="en-US" sz="2800" spc="-1" strike="noStrike">
                <a:solidFill>
                  <a:srgbClr val="000000"/>
                </a:solidFill>
                <a:latin typeface="4805_KwangMD_Melt"/>
              </a:rPr>
              <a:t>: 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ศดปช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เดิม หรือ ศดปช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จัดตั้งใหม่ ขึ้นอยู่กับข้อตกลงของสมาชิกศดปช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และการบริหารจัดการของอำเภอ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Century Gothic"/>
              </a:rPr>
              <a:t>งบประมาณ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ศูนย์ละ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9,000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บาท เป็นค่าใช้จ่ายในการจัดพิมพ์แผนที่ชุดดิน แผ่นพับประชาสัมพันธ์ จัดซื้อจัดหาวัสดุอุปกรณ์และปัจจัยการผลิตที่จำเป็น เ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เช่น ชุดตรวจสอบ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 P K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ในดินแบบรวดเร็ว ชุดน้ำยาเติม แม่ปุ๋ย วัสดุปรับปรุงดิน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เช่นปูนขาว โดโลไมท์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สารเร่งซูเปอร์ พด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เมล็ดพันธุ์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พืชปุ๋ยสด ปุ๋ยอินทรีย์ ปุ๋ยชีวภาพ เป็นต้น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e3d2d"/>
                </a:solidFill>
                <a:latin typeface="Century Gothic"/>
              </a:rPr>
              <a:t>หน่วยเบิกจ่าย</a:t>
            </a: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1" lang="th-TH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4185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2) 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จัดเวทีสร้างเครือข่ายด้านดินและปุ๋ย ระดับจังหวัด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920" y="1628280"/>
            <a:ext cx="727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Century Gothic"/>
              </a:rPr>
              <a:t>การดำเนินงาน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สำนักงานเกษตรจังหวัดร่วมกับสำนักงานเกษตรอำเภอ    จัดเวทีให้ผู้แทน ศดปช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ในจังหวัดได้ร่วมแลกเปลี่ยนเรียนรู้ประสบการณ์ความสำเร็จในการขับเคลื่อนการดำเนินงาน ศดปช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Century Gothic"/>
              </a:rPr>
              <a:t>เป้าหมาย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ผู้แทนจาก ศดปช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ศูนย์ละ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คน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ประธาน และเกษตรกรสมาชิก ศดปช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.)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เจ้าหน้าที่ส่งเสริมการเกษตรระดับอำเภอที่ดูแล ศดปช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ศูนย์ละ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คน และเจ้าหน้าที่จากสำนักงานเกษตรจังหวัด รวม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37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ราย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Century Gothic"/>
              </a:rPr>
              <a:t>กำหนดการจัดกิจกรรม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เดือนกุมภาพันธ์ 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2563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Century Gothic"/>
              </a:rPr>
              <a:t>หน่วยเบิกจ่า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th-TH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0246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3) 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เสริมสร้างศักยภาพ ศดปช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.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ดีเด่น 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ระดับเขต</a:t>
            </a:r>
            <a:r>
              <a:rPr b="1" lang="th-TH" sz="4000" spc="-1" strike="noStrike">
                <a:solidFill>
                  <a:srgbClr val="ff0000"/>
                </a:solidFill>
                <a:latin typeface="Century Gothic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71280" y="141264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293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 u="sng">
                <a:solidFill>
                  <a:srgbClr val="000000"/>
                </a:solidFill>
                <a:uFillTx/>
                <a:latin typeface="Century Gothic"/>
              </a:rPr>
              <a:t>เป้าหมาย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ดีเด่น ระดับเขต ปี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2562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ได้แก่ ศูนย์จัดการดินปุ๋ยชุมชนตำบลเนินปอ อำเภอสามง่าม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88000" indent="-2293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 u="sng">
                <a:solidFill>
                  <a:srgbClr val="000000"/>
                </a:solidFill>
                <a:uFillTx/>
                <a:latin typeface="Century Gothic"/>
              </a:rPr>
              <a:t>วิธีดำเนินงาน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สำนักงานเกษตรจังหวัดร่วมกับสำนักงานเกษตรอำเภอ จัดประชุมหารือสมาชิก 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และดำเนินการตามแผนและแนวทางที่ 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ร่วมกันวางไว้ เพื่อยกระดับ 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ให้มีความเข้มแข็ง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88000" indent="-229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จัดทำป้ายประชาสัมพันธ์ 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ดีเด่น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ป้าย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88000" indent="-229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จัดทำสื่อประชาสัมพันธ์ 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และกิจกรรมทาง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ocia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537120" indent="-22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ar-SA" sz="2600" spc="-1" strike="noStrike">
                <a:solidFill>
                  <a:srgbClr val="000000"/>
                </a:solidFill>
                <a:latin typeface="Century Gothic"/>
                <a:ea typeface="Tahoma"/>
              </a:rPr>
              <a:t> 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จัดวันให้บริการตรวจวิเคราะห์ดิน และให้คำแนะนำการจัดการดินและปุ๋ยแก่สมาชิกและชุมชน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ครั้ง  สถานที่ดำเนินการ ศดปช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ตำบลเนินปอ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88000" indent="-2293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Century Gothic"/>
              </a:rPr>
              <a:t>กำหนดการจัดกิจกรรม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เดือนมกราคม </a:t>
            </a:r>
            <a:r>
              <a:rPr b="1" lang="th-TH" sz="2600" spc="-1" strike="noStrike">
                <a:solidFill>
                  <a:srgbClr val="000000"/>
                </a:solidFill>
                <a:latin typeface="Century Gothic"/>
              </a:rPr>
              <a:t>2563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288000" indent="-22932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Century Gothic"/>
              </a:rPr>
              <a:t>หน่วยเบิกจ่าย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600" spc="-1" strike="noStrike">
                <a:solidFill>
                  <a:srgbClr val="000000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537120" indent="-22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37120" indent="-22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288000" indent="-2293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920" y="1027080"/>
            <a:ext cx="741672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7030a0"/>
                </a:solidFill>
                <a:latin typeface="Century Gothic"/>
              </a:rPr>
              <a:t>กิจกรรมถ่ายทอดเทคโนโลยีด้านการจัดการดินและปุ๋ยอย่างมีประสิทธิภาพ 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920" y="198864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3472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Century Gothic"/>
              </a:rPr>
              <a:t>การจัดกระบวนการเรียนรู้ด้านการจัดการดินและปุ๋ย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Century Gothic"/>
              </a:rPr>
              <a:t>การดำเนินงา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สำนักงานเกษตรอำเภอ ดำเนินการจัดกระบวนการเรียนรู้แบบมีส่วนร่วม ให้แก่เกษตรกรสมาชิก ศดปช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. 1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ครั้ง จำนวน ศดปช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ละอย่างน้อย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20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ราย ประเด็นได้แก่ ผลการดำเนินงาน ปี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2562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0" lang="th-TH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แผนการบริหารจัดการ ศดปช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ให้เข้มแข็ง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การขับเคลื่อนเป็นธุรกิจชุมชน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th-TH" sz="2400" spc="-1" strike="noStrike">
                <a:solidFill>
                  <a:srgbClr val="000000"/>
                </a:solidFill>
                <a:latin typeface="Century Gothic"/>
              </a:rPr>
              <a:t>วิชาการและเทคโนโลยีด้านดินและปุ๋ย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4805_KwangMD_Melt"/>
              </a:rPr>
              <a:t>เป้าหมาย </a:t>
            </a:r>
            <a:r>
              <a:rPr b="1" lang="en-US" sz="2400" spc="-1" strike="noStrike">
                <a:solidFill>
                  <a:srgbClr val="000000"/>
                </a:solidFill>
                <a:latin typeface="4805_KwangMD_Melt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ศดปช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เดิม หรือ ศดปช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จัดตั้งใหม่ ขึ้นอยู่กับข้อตกลงของสมาชิกศดปช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.       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และการบริหารจัดการของอำเภอ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4805_KwangMD_Melt"/>
              </a:rPr>
              <a:t>กำหนดการจัดกิจกรรม</a:t>
            </a:r>
            <a:r>
              <a:rPr b="1" lang="en-US" sz="2400" spc="-1" strike="noStrike">
                <a:solidFill>
                  <a:srgbClr val="000000"/>
                </a:solidFill>
                <a:latin typeface="4805_KwangMD_Mel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4805_KwangMD_Melt"/>
              </a:rPr>
              <a:t>: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มกราคม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256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4805_KwangMD_Melt"/>
              </a:rPr>
              <a:t>งบประมาณ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4805_KwangMD_Melt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ศูนย์ละ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4805_KwangMD_Melt"/>
              </a:rPr>
              <a:t>,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000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บาท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4805_KwangMD_Melt"/>
              </a:rPr>
              <a:t>หน่วยเบิกจ่าย </a:t>
            </a:r>
            <a:r>
              <a:rPr b="1" lang="en-US" sz="2400" spc="-1" strike="noStrike">
                <a:solidFill>
                  <a:srgbClr val="000000"/>
                </a:solidFill>
                <a:latin typeface="4805_KwangMD_Melt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4805_KwangMD_Melt"/>
              </a:rPr>
              <a:t>สำนักงานเกษตรอำเภอ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4840" indent="-23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4c600"/>
                </a:solidFill>
                <a:latin typeface="4805_KwangMD_Melt"/>
              </a:rPr>
              <a:t>โครงการส่งเสริมการหยุดการเผาในพื้นที่การเกษตร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55640" y="177300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ถ่ายทอดความรู้พื้นฐานเพื่อการหยุดเผาฯสร้างและพัฒนาวิทยากร     ด้านการทำการเกษตรปลอดการเผา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พื้นที่ดำเนินการ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4805_KwangMD_Mel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วันที่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17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ธันวาคม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2562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ศพก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.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สามง่าม เกษตรกร 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80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ราย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4805_KwangMD_Mel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วันที่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20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ธันวาคม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2562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ศพก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.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บึงนาราง เกษตรกร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80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ราย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4805_KwangMD_Mel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วันที่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24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ธันวาคม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2562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ศพก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.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เมืองพิจิตร เกษตรกร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80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ราย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งบประมาณ  ศูนย์ละ 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32,000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บาท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263880" indent="-210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หน่วยงานเบิกจ่าย </a:t>
            </a:r>
            <a:r>
              <a:rPr b="1" lang="en-US" sz="3200" spc="-1" strike="noStrike">
                <a:solidFill>
                  <a:srgbClr val="000099"/>
                </a:solidFill>
                <a:latin typeface="4805_KwangMD_Melt"/>
              </a:rPr>
              <a:t>: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สำนักงานเกษตรจังหวัดพิจิตร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3399"/>
                </a:solidFill>
                <a:latin typeface="Century Gothic"/>
              </a:rPr>
              <a:t>จบการนำเสนอ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7" name="ตัวยึดเนื้อหา 3" descr="นิทรรศการมะม่วงลวก_๑๙๑๑๐๘_0016.jpg"/>
          <p:cNvPicPr/>
          <p:nvPr/>
        </p:nvPicPr>
        <p:blipFill>
          <a:blip r:embed="rId1"/>
          <a:srcRect l="0" t="0" r="0" b="19245"/>
          <a:stretch/>
        </p:blipFill>
        <p:spPr>
          <a:xfrm>
            <a:off x="1835280" y="1557360"/>
            <a:ext cx="5545080" cy="3600360"/>
          </a:xfrm>
          <a:prstGeom prst="rect">
            <a:avLst/>
          </a:prstGeom>
          <a:ln w="0">
            <a:noFill/>
          </a:ln>
        </p:spPr>
      </p:pic>
      <p:pic>
        <p:nvPicPr>
          <p:cNvPr id="368" name="สี่เหลี่ยมผืนผ้า 4" descr=""/>
          <p:cNvPicPr/>
          <p:nvPr/>
        </p:nvPicPr>
        <p:blipFill>
          <a:blip r:embed="rId2"/>
          <a:stretch/>
        </p:blipFill>
        <p:spPr>
          <a:xfrm>
            <a:off x="4638600" y="4840200"/>
            <a:ext cx="3322800" cy="148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4c600"/>
                </a:solidFill>
                <a:latin typeface="4805_KwangMD_Melt"/>
              </a:rPr>
              <a:t>โครงการส่งเสริมการใช้เครื่องจักรกลทางการเกษตร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920" y="2060280"/>
            <a:ext cx="727416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32200">
              <a:lnSpc>
                <a:spcPct val="8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 </a:t>
            </a: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กิจกรรมส่งเสริมการใช้เครื่องจักรกลทดแทนแรงงานเกษตร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  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-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สร้างช่างเกษตรท้องถิ่นประจำแปลงใหญ่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        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อบรมช่างเกษตรท้องถิ่น หลักสูตรระดับที่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1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เป้าหมาย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 สมาชิกแปลงใหญ่ข้าว ปี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59 – 62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กลุ่มละ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1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คน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       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รวม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60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คน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สถานที่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 สำนักงานเกษตรจังหวัดพิจิตร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กำหนดการ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 วันพุธที่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18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ธันวาคม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2562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หน่วยเบิกจ่าย </a:t>
            </a:r>
            <a:r>
              <a:rPr b="1" lang="en-US" sz="3000" spc="-1" strike="noStrike">
                <a:solidFill>
                  <a:srgbClr val="000099"/>
                </a:solidFill>
                <a:latin typeface="4805_KwangMD_Melt"/>
              </a:rPr>
              <a:t>:</a:t>
            </a:r>
            <a:r>
              <a:rPr b="1" lang="th-TH" sz="3000" spc="-1" strike="noStrike">
                <a:solidFill>
                  <a:srgbClr val="000099"/>
                </a:solidFill>
                <a:latin typeface="4805_KwangMD_Melt"/>
              </a:rPr>
              <a:t> </a:t>
            </a:r>
            <a:r>
              <a:rPr b="0" lang="th-TH" sz="3000" spc="-1" strike="noStrike">
                <a:solidFill>
                  <a:srgbClr val="000099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291600" indent="-23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78483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94c600"/>
                </a:solidFill>
                <a:latin typeface="4805_KwangMD_Melt"/>
              </a:rPr>
              <a:t>โครงการยกระดับคุณภาพมาตรฐานสินค้าเกษตร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3284280"/>
            <a:ext cx="705636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2060"/>
                </a:solidFill>
                <a:latin typeface="4805_KwangMD_Melt"/>
              </a:rPr>
              <a:t>กิจกรรมส่งเสริมการอารักขาพืชเพื่อเพิ่มประสิทธิภาพการผลิตสินค้าเกษตร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สี่เหลี่ยมผืนผ้า 3"/>
          <p:cNvSpPr/>
          <p:nvPr/>
        </p:nvSpPr>
        <p:spPr>
          <a:xfrm>
            <a:off x="684360" y="1125360"/>
            <a:ext cx="7920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f5201"/>
                </a:solidFill>
                <a:latin typeface="4805_KwangMD_Melt"/>
                <a:ea typeface="DilleniaUPC"/>
              </a:rPr>
              <a:t>1. </a:t>
            </a:r>
            <a:r>
              <a:rPr b="1" lang="th-TH" sz="4000" spc="-1" strike="noStrike">
                <a:solidFill>
                  <a:srgbClr val="8f5201"/>
                </a:solidFill>
                <a:latin typeface="4805_KwangMD_Melt"/>
                <a:cs typeface="DilleniaUPC"/>
              </a:rPr>
              <a:t>ส่งเสริมการจัดการศัตรูพืชไร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อบรมเกษตรกรเรื่องการจัดการศัตรูข้าวโพ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(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หนอนกระทู้ข้าวโพดลายจุด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เป้าหมาย </a:t>
            </a:r>
            <a:r>
              <a:rPr b="0" lang="th-TH" sz="34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เกษตรกรผู้ปลูกข้าวโพด อ</a:t>
            </a:r>
            <a:r>
              <a:rPr b="0" lang="th-TH" sz="34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.</a:t>
            </a:r>
            <a:r>
              <a:rPr b="0" lang="th-TH" sz="34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โพธิ์ประทับช้าง จำนวน </a:t>
            </a:r>
            <a:r>
              <a:rPr b="0" lang="th-TH" sz="34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50 </a:t>
            </a:r>
            <a:r>
              <a:rPr b="0" lang="th-TH" sz="34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ค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สถานที่ 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อำเภอกำหน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กำหนดการ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วันศุกร์ที่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13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ธันวาคม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25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หน่วยเบิกจ่าย </a:t>
            </a:r>
            <a:r>
              <a:rPr b="1" lang="en-US" sz="3600" spc="-1" strike="noStrike">
                <a:solidFill>
                  <a:srgbClr val="000099"/>
                </a:solidFill>
                <a:latin typeface="4805_KwangMD_Melt"/>
              </a:rPr>
              <a:t>: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  <a:ea typeface="DilleniaUPC"/>
              </a:rPr>
              <a:t>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  <a:cs typeface="DilleniaUPC"/>
              </a:rPr>
              <a:t>สำนักงานเกษตรจังหวัดพิจิต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71280" y="1413000"/>
            <a:ext cx="6848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f5201"/>
                </a:solidFill>
                <a:latin typeface="4805_KwangMD_Melt"/>
              </a:rPr>
              <a:t>2. </a:t>
            </a:r>
            <a:r>
              <a:rPr b="1" lang="th-TH" sz="4000" spc="-1" strike="noStrike">
                <a:solidFill>
                  <a:srgbClr val="8f5201"/>
                </a:solidFill>
                <a:latin typeface="4805_KwangMD_Melt"/>
              </a:rPr>
              <a:t>ส่งเสริมการจัดการศัตรูพืชตระกูลปาล์ม </a:t>
            </a:r>
            <a:r>
              <a:rPr b="1" lang="th-TH" sz="4000" spc="-1" strike="noStrike">
                <a:solidFill>
                  <a:srgbClr val="8f5201"/>
                </a:solidFill>
                <a:latin typeface="4805_KwangMD_Melt"/>
              </a:rPr>
              <a:t>(</a:t>
            </a:r>
            <a:r>
              <a:rPr b="1" lang="th-TH" sz="4000" spc="-1" strike="noStrike">
                <a:solidFill>
                  <a:srgbClr val="8f5201"/>
                </a:solidFill>
                <a:latin typeface="4805_KwangMD_Melt"/>
              </a:rPr>
              <a:t>มะพร้าวและปาล์มน้ำมัน</a:t>
            </a:r>
            <a:r>
              <a:rPr b="1" lang="th-TH" sz="4000" spc="-1" strike="noStrike">
                <a:solidFill>
                  <a:srgbClr val="8f5201"/>
                </a:solidFill>
                <a:latin typeface="4805_KwangMD_Melt"/>
              </a:rPr>
              <a:t>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e3d2d"/>
                </a:solidFill>
                <a:latin typeface="4805_KwangMD_Melt"/>
              </a:rPr>
              <a:t>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จัดกระบวนเรียนรู้การจัดการศัตรูพืชตระกูลปาล์ม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เป้าหมาย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   เกษตรกรผู้ปลูกปาล์มน้ำมันและมะพร้าว จำนวน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50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คน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สถานที่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   ห้องประชุมสำนักงานเกษตรจังหวัดพิจิตร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กำหนดการ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   วันพฤหัสบดีที่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12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ธันวาคม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2562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หน่วยเบิกจ่าย </a:t>
            </a:r>
            <a:r>
              <a:rPr b="1" lang="en-US" sz="3200" spc="-1" strike="noStrike">
                <a:solidFill>
                  <a:srgbClr val="000099"/>
                </a:solidFill>
                <a:latin typeface="4805_KwangMD_Melt"/>
              </a:rPr>
              <a:t>: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สำนักงานเกษตรจังหวัดพิจิตร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300" spc="-1" strike="noStrike">
                <a:solidFill>
                  <a:srgbClr val="94c600"/>
                </a:solidFill>
                <a:latin typeface="4805_KwangMD_Melt"/>
              </a:rPr>
              <a:t>เป้าหมายเกษตรกร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826920" y="1484280"/>
          <a:ext cx="7417080" cy="4587840"/>
        </p:xfrm>
        <a:graphic>
          <a:graphicData uri="http://schemas.openxmlformats.org/drawingml/2006/table">
            <a:tbl>
              <a:tblPr/>
              <a:tblGrid>
                <a:gridCol w="598680"/>
                <a:gridCol w="1684440"/>
                <a:gridCol w="1674720"/>
                <a:gridCol w="1676520"/>
                <a:gridCol w="1782720"/>
              </a:tblGrid>
              <a:tr h="3146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อำเภ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จำนวนเกษตรกรผู้ปลูกพื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รวม 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ราย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มะพร้าว 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ราย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ปาล์มน้ำมัน 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ราย</a:t>
                      </a: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เมืองพิจิต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วังทรายพู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โพธิ์ประทับช้า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ตะพานหิ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บางมูลนา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โพทะเ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สามง่า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ทับคล้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สากเหล็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บึงนารา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วชิรบารม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cs typeface="TH Krub"/>
                        </a:rPr>
                        <a:t>รว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99"/>
                          </a:solidFill>
                          <a:latin typeface="TH Krub"/>
                          <a:ea typeface="TH Krub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663732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4c600"/>
                </a:solidFill>
                <a:latin typeface="4805_KwangMD_Melt"/>
              </a:rPr>
              <a:t>โครงการศูนย์เรียนรู้การเพิ่มประสิทธิภาพ</a:t>
            </a:r>
            <a:br>
              <a:rPr sz="4400"/>
            </a:br>
            <a:r>
              <a:rPr b="1" lang="th-TH" sz="4400" spc="-1" strike="noStrike">
                <a:solidFill>
                  <a:srgbClr val="94c600"/>
                </a:solidFill>
                <a:latin typeface="4805_KwangMD_Melt"/>
              </a:rPr>
              <a:t>การผลิตสินค้าเกษตร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58560" y="3212640"/>
            <a:ext cx="663876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3399"/>
                </a:solidFill>
                <a:latin typeface="4805_KwangMD_Melt"/>
              </a:rPr>
              <a:t>พัฒนาศูนย์เครือข่าย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94c600"/>
                </a:solidFill>
                <a:latin typeface="4805_KwangMD_Melt"/>
              </a:rPr>
              <a:t>การพัฒนาศักยภาพศูนย์จัดการศัตรูพืชชุมชน</a:t>
            </a:r>
            <a:endParaRPr b="0" lang="en-US" sz="4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55280" y="1916280"/>
            <a:ext cx="748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6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1.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จัดกระบวนการเรียนรู้แก่เกษตรกรด้านการจัดการศัตรูพืชให้กับสมาชิก ศจช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.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จำนวน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1 </a:t>
            </a: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ครั้ง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56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เป้าหมาย 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ศจช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.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เครือข่าย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(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เดิม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)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และศจช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.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จัดตั้งใหม่ ตามนโยบาย 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1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นวส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. 1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ศจช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. 12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ศูนย์ รวมอำเภอๆ ละ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2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ศูนย์ๆ ละ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30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คน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56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ดำเนินการ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ธันวาคม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2562 –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มกราคม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2563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5652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100" spc="-1" strike="noStrike">
                <a:solidFill>
                  <a:srgbClr val="000099"/>
                </a:solidFill>
                <a:latin typeface="4805_KwangMD_Melt"/>
              </a:rPr>
              <a:t>งบประมาณ</a:t>
            </a:r>
            <a:r>
              <a:rPr b="0" lang="th-TH" sz="4100" spc="-1" strike="noStrike">
                <a:solidFill>
                  <a:srgbClr val="000099"/>
                </a:solidFill>
                <a:latin typeface="4805_KwangMD_Melt"/>
              </a:rPr>
              <a:t> ศูนย์ละ </a:t>
            </a:r>
            <a:r>
              <a:rPr b="0" lang="th-TH" sz="4100" spc="-1" strike="noStrike">
                <a:solidFill>
                  <a:srgbClr val="000099"/>
                </a:solidFill>
                <a:latin typeface="4805_KwangMD_Melt"/>
              </a:rPr>
              <a:t>6,000 </a:t>
            </a:r>
            <a:r>
              <a:rPr b="0" lang="th-TH" sz="4100" spc="-1" strike="noStrike">
                <a:solidFill>
                  <a:srgbClr val="000099"/>
                </a:solidFill>
                <a:latin typeface="4805_KwangMD_Melt"/>
              </a:rPr>
              <a:t>บาท</a:t>
            </a:r>
            <a:endParaRPr b="0" lang="en-US" sz="4100" spc="-1" strike="noStrike">
              <a:solidFill>
                <a:srgbClr val="3e3d2d"/>
              </a:solidFill>
              <a:latin typeface="Century Gothic"/>
            </a:endParaRPr>
          </a:p>
          <a:p>
            <a:pPr marL="56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4805_KwangMD_Melt"/>
              </a:rPr>
              <a:t>หน่วยงานเบิกจ่าย </a:t>
            </a:r>
            <a:r>
              <a:rPr b="1" lang="en-US" sz="3600" spc="-1" strike="noStrike">
                <a:solidFill>
                  <a:srgbClr val="000099"/>
                </a:solidFill>
                <a:latin typeface="4805_KwangMD_Melt"/>
              </a:rPr>
              <a:t>: </a:t>
            </a:r>
            <a:r>
              <a:rPr b="0" lang="th-TH" sz="3600" spc="-1" strike="noStrike">
                <a:solidFill>
                  <a:srgbClr val="000099"/>
                </a:solidFill>
                <a:latin typeface="4805_KwangMD_Melt"/>
              </a:rPr>
              <a:t>สำนักงานเกษตรอำเภอ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56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360" y="692280"/>
            <a:ext cx="82072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2. </a:t>
            </a: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สนับสนุนการจัดทำแปลงเรียนรู้การจัดการศัตรูพืชด้วยวิธีผสมผสานที่เหมาะสมกับพื้นที่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868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อำเภอดำเนินการจัดทำแปลงเรียนรู้การจัดการศัตรูพืชอย่างเหมาะสมตามสภาพพื้นที่ เพื่อเป็นแบบอย่างให้แก่เกษตรกรในพื้นที่นำไปปฏิบัติใช้ต่อไป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868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พื้นที่ดำเนินการ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	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-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ศูนย์จัดการศัตรูพืชชุมชนตำบลเนินปอ อำเภอสามง่าม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	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-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ศูนย์จัดการศัตรูพืชชุมชนตำบลบ้านน้อย อำเภอโพทะเล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868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งบประมาณ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 อำเภอละ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18,000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บาทกำหนดเบิกจ่ายแล้วเสร็จภายในไตรมาสที่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2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868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4805_KwangMD_Melt"/>
              </a:rPr>
              <a:t>หน่วยงานเบิกจ่าย </a:t>
            </a:r>
            <a:r>
              <a:rPr b="0" lang="en-US" sz="3200" spc="-1" strike="noStrike">
                <a:solidFill>
                  <a:srgbClr val="000099"/>
                </a:solidFill>
                <a:latin typeface="4805_KwangMD_Melt"/>
              </a:rPr>
              <a:t>: </a:t>
            </a:r>
            <a:r>
              <a:rPr b="0" lang="th-TH" sz="3200" spc="-1" strike="noStrike">
                <a:solidFill>
                  <a:srgbClr val="000099"/>
                </a:solidFill>
                <a:latin typeface="4805_KwangMD_Melt"/>
              </a:rPr>
              <a:t>สำนักงานเกษตรอำเภอสามง่ามและโพทะเล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6T01:39:32Z</dcterms:created>
  <dc:creator>Admin</dc:creator>
  <dc:description/>
  <dc:language>en-US</dc:language>
  <cp:lastModifiedBy>HP</cp:lastModifiedBy>
  <dcterms:modified xsi:type="dcterms:W3CDTF">2019-11-08T03:21:37Z</dcterms:modified>
  <cp:revision>46</cp:revision>
  <dc:subject/>
  <dc:title>โครงการ/กิจกรรม ปีงบประมาณ 2563</dc:title>
</cp:coreProperties>
</file>